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4D4-D335-4041-816B-828AA1F8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9A6-8505-4ABA-8193-C0123D0D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300-B0E1-4AEF-8CF5-9D3A690C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030-3AF7-4340-A2D2-7FB0F37E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10C-7421-40CC-ACBA-46CF9E52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EEF-1D2D-47BB-BACF-72A3A71C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C3F-0C56-4EF0-A875-D766C2E0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2DF-C356-4EDF-8B8B-F3D3AE68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BE8-2ACB-419F-8528-0D6D9370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AC2-0DD3-4411-B1FE-D332D4B9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913-C450-41E2-A2E6-3E0C6F2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4E0-5436-4E4B-939F-4E6988A2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B0D9-826E-40A8-8B21-A3FDD3878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572000" cy="316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27280" y="1341360"/>
            <a:ext cx="347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8800" y="1916280"/>
            <a:ext cx="8302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Why couldn't the skele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go to the Christmas Party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8160" y="2852640"/>
            <a:ext cx="714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 had no body to go with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3080" y="1626120"/>
            <a:ext cx="456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Knock Knock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Who's there ?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ary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ary who ?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640" y="2565360"/>
            <a:ext cx="59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Mary Christmas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08520" y="2467800"/>
            <a:ext cx="785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 does Father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rite on his Christmas cards 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7600" y="1628640"/>
            <a:ext cx="499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CDEFGHIJ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PQRSTUVWXY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No-L !!) 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1520" y="2376720"/>
            <a:ext cx="511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 do snow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at for lunch 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40720" y="2276640"/>
            <a:ext cx="55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Icebergers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69480" y="2379960"/>
            <a:ext cx="699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w can Santa's sleig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ssibly fly through the ai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73080" y="2975040"/>
            <a:ext cx="653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ou would t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f you go by flying reinde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6360" y="1492200"/>
            <a:ext cx="67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hat do you have in Decemb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at you don't have in any other month 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87400" y="3040200"/>
            <a:ext cx="1095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does Rudolph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en Christmas is com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1280" y="292428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looks at his calen-?deer?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441360"/>
            <a:ext cx="6624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24240" y="333360"/>
            <a:ext cx="47131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720" y="2565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letter "D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5440" y="2276640"/>
            <a:ext cx="650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hat does Father Christ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uffer from if he gets stu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 a chimney 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31600" y="2997360"/>
            <a:ext cx="53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anta Claustrophobi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39920" y="2376720"/>
            <a:ext cx="623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um, Can I have a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or Christmas 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33880" y="2925720"/>
            <a:ext cx="621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, you can have tur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ke everyone 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65360" y="2467800"/>
            <a:ext cx="700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the best thing to p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o a Christmas cake 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19240" y="24922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Your teeth 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1:52:38Z</dcterms:created>
  <dc:creator>MCC</dc:creator>
  <dc:description/>
  <dc:language>en-US</dc:language>
  <cp:lastModifiedBy>MCC</cp:lastModifiedBy>
  <dcterms:modified xsi:type="dcterms:W3CDTF">2010-12-17T12:37:31Z</dcterms:modified>
  <cp:revision>4</cp:revision>
  <dc:subject/>
  <dc:title>Diapositiva 1</dc:title>
</cp:coreProperties>
</file>